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21.wmf" ContentType="image/x-wmf"/>
  <Override PartName="/ppt/media/image19.wmf" ContentType="image/x-wmf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612-F8B9-44CD-A103-045A2988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F31-8146-44F2-B4F8-845B8370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8EC-BF77-45AC-8CFA-42E5ED5C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D0D-9305-4757-BB40-E7B54E12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AC04-4828-4F03-BF42-9FD2A019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1290-9050-450D-A959-7B0255B0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AC5A-4B5E-48EC-A8A2-0CEA9473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3AC7-5E97-4369-B47E-45972830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C642-AA74-4834-9BB9-A6151C69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0E87-3B9B-4475-A471-E8B2A3E8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45A1-43C7-4334-BD12-DCCE8BAD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042-4C8E-4F89-A6F8-FC10DD6B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CDA9-2BCF-4807-92B0-AE54EB41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EF6B-D8B3-4F4F-9637-0332D521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D29C-43A5-4B25-A6EA-986C3DDA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4F6A-C04E-4A0A-8376-6725A329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DA5A-1A56-4042-99FA-3AFB2EE0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9874-1A44-46FE-A1DB-AA82E7D4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1B4A7-8021-4A22-9611-F00875A4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12A86-F82A-4072-9053-BE52B29A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41B19-3346-4DC4-9349-284111C5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764E-484B-447B-9C56-301459B0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313-FA66-4FD5-97A8-48839F01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CA21-F2A8-42B1-8FC8-0863D76C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D5D8-4BBB-4B86-BFFE-5B07B01C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098F-44A0-4376-AEAC-71DB78F5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5EA7B-C8B6-4DBA-89AC-236E961E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5E4B-5DDC-4C11-84DF-D25AAA47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42CA-891C-4B34-8416-C71024A9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B2E3-7BE7-4510-9778-9A2D801A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53FAE-F489-400C-B3E5-2F3B5B17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4CE8D-DC4E-42CC-911F-344D0A7D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89E61-DDEF-4950-B217-333143ED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6B5-CF08-4F66-A079-2102B4A1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ECB2-3A5B-406A-ADD5-A191699B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16678-B6BC-48C3-8E42-A534F9D4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7228F-D920-4221-A868-6BBD1B7D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6479-6180-4FBA-BD88-AC545C8E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51E05-43BC-41FE-B8B1-B35AAA58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6EE8-F897-4D35-9E44-5766FDEF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19E2-B419-4F2F-99C5-6E5D29BE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0F72-B71E-4686-90C0-E510E858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D6EAB-9972-4D1F-A3C5-720B4C78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60D0E-D9DA-4854-838C-E26FBA18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713-3E11-42A2-AA58-D2F2E985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A41DF-DD30-4714-B4BD-54212538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4E7DA-3D76-4D49-819A-4A90E800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700A-30F5-4B90-B412-32CD608D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7DD91-FEFB-4BCA-841D-B9B1B7CC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4B512-4B77-42A8-8452-12ADB85E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579DC-1FE3-4901-9ECE-8DABA98E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A96AD-F2CA-41D5-A81F-B36266D7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5634A-8F2F-441B-99C0-EAEB1A17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9CEC-FA54-40A3-BBB7-C40B84D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22A43-CA91-435F-AECC-5D504E7A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487-1C3B-463B-A982-2D3BE527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92F6-39A3-424C-832E-F87AD3BD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016-2722-4141-845F-85605DFA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1FA-AD1E-4DE7-B1A2-37307A8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392-4B91-405A-B9E1-5C55E2CE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68F8-857E-49A6-8EF9-AEB48FAD273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4EF9-9518-4663-8611-D4524630982E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85B-4BA9-40B4-935A-C8601232F61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7640-4C87-45CB-990F-7D0138934664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285C-3DE0-40A9-9D2E-290C83B75BB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0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1066680" y="907920"/>
            <a:ext cx="6207120" cy="259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a2e4e"/>
                </a:solidFill>
                <a:latin typeface="Arial"/>
              </a:rPr>
              <a:t>Сочинение-рассужд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a2e4e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a2e4e"/>
                </a:solidFill>
                <a:latin typeface="Arial"/>
              </a:rPr>
              <a:t>на лингвистическую т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a2e4e"/>
              </a:solidFill>
              <a:latin typeface="Arial"/>
              <a:ea typeface="Arial"/>
            </a:endParaRPr>
          </a:p>
        </p:txBody>
      </p:sp>
      <p:pic>
        <p:nvPicPr>
          <p:cNvPr id="221" name="Picture 4" descr="sova24"/>
          <p:cNvPicPr/>
          <p:nvPr/>
        </p:nvPicPr>
        <p:blipFill>
          <a:blip r:embed="rId1"/>
          <a:stretch/>
        </p:blipFill>
        <p:spPr>
          <a:xfrm>
            <a:off x="2590920" y="34290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Для связи тезиса и доказательства обычно используются следующие словосочетания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докажем это, это можно доказать так, это можно доказать следующим образо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4" descr="Рисунок1-"/>
          <p:cNvPicPr/>
          <p:nvPr/>
        </p:nvPicPr>
        <p:blipFill>
          <a:blip r:embed="rId1"/>
          <a:stretch/>
        </p:blipFill>
        <p:spPr>
          <a:xfrm>
            <a:off x="4038480" y="3581280"/>
            <a:ext cx="2667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Выводы приводят нас к поставленной лингвистической проблеме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4" descr="Рисунок18"/>
          <p:cNvPicPr/>
          <p:nvPr/>
        </p:nvPicPr>
        <p:blipFill>
          <a:blip r:embed="rId1"/>
          <a:stretch/>
        </p:blipFill>
        <p:spPr>
          <a:xfrm>
            <a:off x="2819520" y="3657600"/>
            <a:ext cx="3047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4804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правочник школьника. Русский язы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од ред. В.Славкина – М., 1999 г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Елисеева М. Т. Работа над изложением и сочинением// Начальная школа. - №.- 1981. - с. 26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Закожурникова М. Л. Обучение изложению и сочинению в средней школе. – М., 1953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орепина Л. Ф., Борисенко Ю. Н. Работа над сочинениями разных жанров //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.- № 12. – 1997. – с. 30-35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упров В. Д. Образно – эмоциональное описание предмета // Начальная школ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4" descr="j0299125"/>
          <p:cNvPicPr/>
          <p:nvPr/>
        </p:nvPicPr>
        <p:blipFill>
          <a:blip r:embed="rId2"/>
          <a:stretch/>
        </p:blipFill>
        <p:spPr>
          <a:xfrm>
            <a:off x="7848720" y="2666880"/>
            <a:ext cx="11001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86400" cy="2878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Documents and Settings\Васько\Рабочий стол\щенок\пипип\2.jpg"/>
          <p:cNvPicPr/>
          <p:nvPr/>
        </p:nvPicPr>
        <p:blipFill>
          <a:blip r:embed="rId2"/>
          <a:stretch/>
        </p:blipFill>
        <p:spPr>
          <a:xfrm>
            <a:off x="3733920" y="31240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Целью вступления является подготовка читателя к восприятию написанного вами текс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написании вступления можно использовать следующие приемы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Небольшое 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в котором необходимо показать, что тема сочинения-рассуждения актуальна. Например:  </a:t>
            </a: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Глагол обладает огромным потенциалом для выражения бесчисленных действий, связанных с жизнью и деятельностью челове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4804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Цитата в качестве зачина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Цитированный фрагмент не должен быть большим, а главное – он должен иметь прямое отношение к тем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«Местоимения удобны и прагматичны, но в них нет «перелива красок» настоящего живого слова, они не могут иметь при себе характеризующего эпитета», - так писал о местоимениях известный лингвист А. А, Реформатск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68200" y="-6480"/>
            <a:ext cx="4919760" cy="5273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56840" y="1609200"/>
            <a:ext cx="4343400" cy="4846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Documents and Settings\Васько\Рабочий стол\633977_3.jpg"/>
          <p:cNvPicPr/>
          <p:nvPr/>
        </p:nvPicPr>
        <p:blipFill>
          <a:blip r:embed="rId3"/>
          <a:stretch/>
        </p:blipFill>
        <p:spPr>
          <a:xfrm>
            <a:off x="5029200" y="1600200"/>
            <a:ext cx="2895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написании основной части надо помнить, что вы пишите сочинение-рассуждение и что существует три вида рассужден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Рассуждение-доказательство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ет целью доказать истинность или ложность главного утверждения тезис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Рассуждение на лингвистическую тему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ключает в себя объяснение и доказательство, в котором необходимо привести примеры, указать причинно-следственные отношения. В отличие от рассуждения-доказательства и рассуждения-объяснения, оно содержит в себе не один вопрос и ответ, а систему вопросов и ответов, последовательно дополняющих друг друг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дведение к вопросу →тезис →доказательство тезиса → вывод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4" descr="1и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71800" y="350532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352320" y="1523880"/>
            <a:ext cx="5410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Для связи тезиса и доказательства обычно используются следующие словосочетания: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докажем это, это можно доказать так, это можно доказать следующим образом, это объясняе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J0079258"/>
          <p:cNvPicPr/>
          <p:nvPr/>
        </p:nvPicPr>
        <p:blipFill>
          <a:blip r:embed="rId1"/>
          <a:stretch/>
        </p:blipFill>
        <p:spPr>
          <a:xfrm>
            <a:off x="228600" y="2743200"/>
            <a:ext cx="2695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ько</cp:lastModifiedBy>
  <dcterms:modified xsi:type="dcterms:W3CDTF">2010-05-22T16:43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